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driveby.wav" ContentType="audio/x-wav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866F-3699-4760-A628-D1AF4E946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31C5-421B-4F87-B758-422CBFC9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6D7-965E-4D7D-B7BE-102B2610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138-7585-481F-9DB6-2E151278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797-2AAE-4D78-84E2-FE60E0C0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EE4-39AB-4070-B233-00BAA406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A7A-B86D-495F-8B0C-9F193AE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6D9-C28D-48D9-9F9A-6999DB8C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6CF-1870-4ED1-B2A2-D4ED41C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64D-A308-4E56-9213-727DBF6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447-122F-4756-B4B7-7F15F65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0C8-BD62-4D8E-87DC-08BBAC9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241-F2C6-40D1-9F55-9FA17CF6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225-CD9A-452E-BD80-4B117590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5EE4-443F-40A4-8903-A305E3ED0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xecutive_ball_toy_md_wht"/>
          <p:cNvPicPr/>
          <p:nvPr/>
        </p:nvPicPr>
        <p:blipFill>
          <a:blip r:embed="rId1"/>
          <a:stretch/>
        </p:blipFill>
        <p:spPr>
          <a:xfrm>
            <a:off x="29718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Activity Ser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xt Reference: 3.3 (pg. 125 - 1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a) – d), 9,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2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Cu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n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a) Yes: 2Cr + 6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r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ction with water at an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 + 2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i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11, 12, 8,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Rb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Rb + 2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RbCl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Rb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R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12c)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tective c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320" y="533520"/>
            <a:ext cx="8991360" cy="624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 the next slide, place a check in the corner of boxes where you think reactions will take plac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t a plastic spot plat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bine chemicals specified in the chart.  Figure out a way to keep track of the chemicals. Use a ¼ scoop for solids (the less, the better).  Use 1 squeeze of an eyedropper for solution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rite chemical equations for chemicals that reacted.  Write NR where there was no react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ump used chemicals into the large funnel at the front of the room (use a squirt bottle to rinse remaining chemicals into the funnel).  Wash the spot plate and glass rod very well. Dry &amp; retur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series 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52280" y="77760"/>
          <a:ext cx="8839440" cy="6629400"/>
        </p:xfrm>
        <a:graphic>
          <a:graphicData uri="http://schemas.openxmlformats.org/drawingml/2006/table">
            <a:tbl>
              <a:tblPr/>
              <a:tblGrid>
                <a:gridCol w="609840"/>
                <a:gridCol w="2743200"/>
                <a:gridCol w="2743200"/>
                <a:gridCol w="2743200"/>
              </a:tblGrid>
              <a:tr h="57960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39"/>
          <p:cNvSpPr/>
          <p:nvPr/>
        </p:nvSpPr>
        <p:spPr>
          <a:xfrm>
            <a:off x="781920" y="779400"/>
            <a:ext cx="27363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+ M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4484160" y="2787480"/>
            <a:ext cx="768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4474800" y="4235400"/>
            <a:ext cx="768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9"/>
          <p:cNvSpPr/>
          <p:nvPr/>
        </p:nvSpPr>
        <p:spPr>
          <a:xfrm>
            <a:off x="4484160" y="5683320"/>
            <a:ext cx="768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7"/>
          <p:cNvSpPr/>
          <p:nvPr/>
        </p:nvSpPr>
        <p:spPr>
          <a:xfrm>
            <a:off x="3230640" y="6588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8"/>
          <p:cNvSpPr/>
          <p:nvPr/>
        </p:nvSpPr>
        <p:spPr>
          <a:xfrm>
            <a:off x="5973840" y="6588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9"/>
          <p:cNvSpPr/>
          <p:nvPr/>
        </p:nvSpPr>
        <p:spPr>
          <a:xfrm>
            <a:off x="8717040" y="6588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0"/>
          <p:cNvSpPr/>
          <p:nvPr/>
        </p:nvSpPr>
        <p:spPr>
          <a:xfrm>
            <a:off x="3230640" y="21733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51"/>
          <p:cNvSpPr/>
          <p:nvPr/>
        </p:nvSpPr>
        <p:spPr>
          <a:xfrm>
            <a:off x="5973840" y="21733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2"/>
          <p:cNvSpPr/>
          <p:nvPr/>
        </p:nvSpPr>
        <p:spPr>
          <a:xfrm>
            <a:off x="8717040" y="21733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3"/>
          <p:cNvSpPr/>
          <p:nvPr/>
        </p:nvSpPr>
        <p:spPr>
          <a:xfrm>
            <a:off x="3230640" y="36781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4"/>
          <p:cNvSpPr/>
          <p:nvPr/>
        </p:nvSpPr>
        <p:spPr>
          <a:xfrm>
            <a:off x="5973840" y="36781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5"/>
          <p:cNvSpPr/>
          <p:nvPr/>
        </p:nvSpPr>
        <p:spPr>
          <a:xfrm>
            <a:off x="8717040" y="36781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6"/>
          <p:cNvSpPr/>
          <p:nvPr/>
        </p:nvSpPr>
        <p:spPr>
          <a:xfrm>
            <a:off x="3230640" y="51912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7"/>
          <p:cNvSpPr/>
          <p:nvPr/>
        </p:nvSpPr>
        <p:spPr>
          <a:xfrm>
            <a:off x="5973840" y="51912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58"/>
          <p:cNvSpPr/>
          <p:nvPr/>
        </p:nvSpPr>
        <p:spPr>
          <a:xfrm>
            <a:off x="8717040" y="51912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59"/>
          <p:cNvSpPr/>
          <p:nvPr/>
        </p:nvSpPr>
        <p:spPr>
          <a:xfrm>
            <a:off x="3168720" y="46044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0"/>
          <p:cNvSpPr/>
          <p:nvPr/>
        </p:nvSpPr>
        <p:spPr>
          <a:xfrm>
            <a:off x="3183120" y="19810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61"/>
          <p:cNvSpPr/>
          <p:nvPr/>
        </p:nvSpPr>
        <p:spPr>
          <a:xfrm>
            <a:off x="3183120" y="35053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2"/>
          <p:cNvSpPr/>
          <p:nvPr/>
        </p:nvSpPr>
        <p:spPr>
          <a:xfrm>
            <a:off x="3183120" y="49975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3"/>
          <p:cNvSpPr/>
          <p:nvPr/>
        </p:nvSpPr>
        <p:spPr>
          <a:xfrm>
            <a:off x="5926320" y="45720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4"/>
          <p:cNvSpPr/>
          <p:nvPr/>
        </p:nvSpPr>
        <p:spPr>
          <a:xfrm>
            <a:off x="8669520" y="45720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5"/>
          <p:cNvSpPr/>
          <p:nvPr/>
        </p:nvSpPr>
        <p:spPr>
          <a:xfrm>
            <a:off x="8669520" y="19810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6"/>
          <p:cNvSpPr/>
          <p:nvPr/>
        </p:nvSpPr>
        <p:spPr>
          <a:xfrm>
            <a:off x="8669520" y="34732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7"/>
          <p:cNvSpPr/>
          <p:nvPr/>
        </p:nvSpPr>
        <p:spPr>
          <a:xfrm>
            <a:off x="8669520" y="49975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68"/>
          <p:cNvSpPr/>
          <p:nvPr/>
        </p:nvSpPr>
        <p:spPr>
          <a:xfrm>
            <a:off x="3542400" y="779400"/>
            <a:ext cx="269244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+ Cu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70"/>
          <p:cNvSpPr/>
          <p:nvPr/>
        </p:nvSpPr>
        <p:spPr>
          <a:xfrm>
            <a:off x="6318720" y="779400"/>
            <a:ext cx="26467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+ Zn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7"/>
          <p:cNvSpPr/>
          <p:nvPr/>
        </p:nvSpPr>
        <p:spPr>
          <a:xfrm rot="5400000">
            <a:off x="-158400" y="1116000"/>
            <a:ext cx="12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78"/>
          <p:cNvSpPr/>
          <p:nvPr/>
        </p:nvSpPr>
        <p:spPr>
          <a:xfrm rot="5400000">
            <a:off x="-116280" y="2607840"/>
            <a:ext cx="117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0"/>
          <p:cNvSpPr/>
          <p:nvPr/>
        </p:nvSpPr>
        <p:spPr>
          <a:xfrm rot="5400000">
            <a:off x="-324360" y="4169160"/>
            <a:ext cx="159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81"/>
          <p:cNvSpPr/>
          <p:nvPr/>
        </p:nvSpPr>
        <p:spPr>
          <a:xfrm rot="5400000">
            <a:off x="-71640" y="5599440"/>
            <a:ext cx="108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94"/>
          <p:cNvSpPr/>
          <p:nvPr/>
        </p:nvSpPr>
        <p:spPr>
          <a:xfrm>
            <a:off x="909720" y="2332080"/>
            <a:ext cx="24649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g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95"/>
          <p:cNvSpPr/>
          <p:nvPr/>
        </p:nvSpPr>
        <p:spPr>
          <a:xfrm>
            <a:off x="6402240" y="2332080"/>
            <a:ext cx="2375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n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96"/>
          <p:cNvSpPr/>
          <p:nvPr/>
        </p:nvSpPr>
        <p:spPr>
          <a:xfrm>
            <a:off x="695160" y="3886200"/>
            <a:ext cx="29181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+ Fe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+ M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97"/>
          <p:cNvSpPr/>
          <p:nvPr/>
        </p:nvSpPr>
        <p:spPr>
          <a:xfrm>
            <a:off x="6181560" y="3886200"/>
            <a:ext cx="29181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+ Fe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+ Zn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98"/>
          <p:cNvSpPr/>
          <p:nvPr/>
        </p:nvSpPr>
        <p:spPr>
          <a:xfrm>
            <a:off x="993960" y="5332320"/>
            <a:ext cx="23554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99"/>
          <p:cNvSpPr/>
          <p:nvPr/>
        </p:nvSpPr>
        <p:spPr>
          <a:xfrm>
            <a:off x="6510240" y="5332320"/>
            <a:ext cx="22654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360" y="162864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ivity series of metals is an empirical tool used to predic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ducts in displacement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reactivity of metals with water and acids in replacement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re extra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Times New Roman"/>
              </a:rPr>
              <a:t>Example - 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</a:rPr>
              <a:t>2 Mg (s) + TiCl</a:t>
            </a:r>
            <a:r>
              <a:rPr b="0" lang="en-GB" sz="2400" spc="-1" strike="noStrike" baseline="-25000">
                <a:solidFill>
                  <a:srgbClr val="22228b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</a:rPr>
              <a:t> (l) → Ti (s) + 2 MgCl</a:t>
            </a:r>
            <a:r>
              <a:rPr b="0" lang="en-GB" sz="2400" spc="-1" strike="noStrike" baseline="-25000">
                <a:solidFill>
                  <a:srgbClr val="22228b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</a:rPr>
              <a:t> 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gnesium is used to produce Titanium from Titanium Tetrachloride. The reaction happens as Mg is higher in the Activity Series table than 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32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several re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Fe + CuSO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585e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 Cu + Fe</a:t>
            </a:r>
            <a:r>
              <a:rPr b="0" lang="en-US" sz="3200" spc="-1" strike="noStrike" baseline="-25000">
                <a:solidFill>
                  <a:srgbClr val="8585e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Li + H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8585e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 LiOH + H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experiments reveal trends. The activity series ranks the relative reactivity of me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near the top are most reactive and will displace metals near the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Q: Which of these will re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9"/>
          <p:cNvSpPr/>
          <p:nvPr/>
        </p:nvSpPr>
        <p:spPr>
          <a:xfrm>
            <a:off x="4002120" y="4800600"/>
            <a:ext cx="331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7620120" y="2971800"/>
            <a:ext cx="685800" cy="2666880"/>
          </a:xfrm>
          <a:custGeom>
            <a:avLst/>
            <a:gdLst>
              <a:gd name="textAreaLeft" fmla="*/ 91800 w 685800"/>
              <a:gd name="textAreaRight" fmla="*/ 594000 w 685800"/>
              <a:gd name="textAreaTop" fmla="*/ 532440 h 2666880"/>
              <a:gd name="textAreaBottom" fmla="*/ 200412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27" stAng="-5400000" swAng="-5400000"/>
                <a:lnTo>
                  <a:pt x="0" y="11919"/>
                </a:lnTo>
                <a:arcTo wR="21600" hR="8627" stAng="10800000" swAng="-2545407"/>
                <a:lnTo>
                  <a:pt x="12950" y="20878"/>
                </a:lnTo>
                <a:lnTo>
                  <a:pt x="21600" y="18900"/>
                </a:lnTo>
                <a:lnTo>
                  <a:pt x="12950" y="15478"/>
                </a:lnTo>
                <a:lnTo>
                  <a:pt x="12950" y="16532"/>
                </a:lnTo>
                <a:arcTo wR="21600" hR="8627" stAng="8254593" swAng="2279070"/>
                <a:lnTo>
                  <a:pt x="397" y="10273"/>
                </a:lnTo>
                <a:arcTo wR="21600" hR="8627" stAng="-10533663" swAng="5133663"/>
                <a:close/>
              </a:path>
              <a:path fill="darkenLess" w="21600" h="21600">
                <a:moveTo>
                  <a:pt x="21600" y="0"/>
                </a:moveTo>
                <a:arcTo wR="21600" hR="8627" stAng="-5400000" swAng="-5400000"/>
                <a:lnTo>
                  <a:pt x="0" y="8627"/>
                </a:lnTo>
                <a:arcTo wR="21600" hR="8627" stAng="10800000" swAng="-266337"/>
                <a:lnTo>
                  <a:pt x="397" y="10273"/>
                </a:lnTo>
                <a:arcTo wR="21600" hR="8627" stAng="-10533663" swAng="5133663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3"/>
          <p:cNvSpPr/>
          <p:nvPr/>
        </p:nvSpPr>
        <p:spPr>
          <a:xfrm>
            <a:off x="4001760" y="530388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6"/>
          <p:cNvSpPr/>
          <p:nvPr/>
        </p:nvSpPr>
        <p:spPr>
          <a:xfrm flipV="1">
            <a:off x="7391520" y="304560"/>
            <a:ext cx="914400" cy="350496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2880 h 3504960"/>
              <a:gd name="textAreaBottom" fmla="*/ 26118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6" stAng="-5400000" swAng="-5400000"/>
                <a:lnTo>
                  <a:pt x="0" y="11641"/>
                </a:lnTo>
                <a:arcTo wR="21600" hR="8906" stAng="10800000" swAng="-2599868"/>
                <a:lnTo>
                  <a:pt x="12950" y="20855"/>
                </a:lnTo>
                <a:lnTo>
                  <a:pt x="21600" y="19179"/>
                </a:lnTo>
                <a:lnTo>
                  <a:pt x="12950" y="16012"/>
                </a:lnTo>
                <a:lnTo>
                  <a:pt x="12950" y="17066"/>
                </a:lnTo>
                <a:arcTo wR="21600" hR="8906" stAng="8200132" swAng="2379912"/>
                <a:lnTo>
                  <a:pt x="256" y="10273"/>
                </a:lnTo>
                <a:arcTo wR="21600" hR="8906" stAng="-10580044" swAng="5180044"/>
                <a:close/>
              </a:path>
              <a:path fill="darkenLess" w="21600" h="21600">
                <a:moveTo>
                  <a:pt x="21600" y="0"/>
                </a:moveTo>
                <a:arcTo wR="21600" hR="8906" stAng="-5400000" swAng="-5400000"/>
                <a:lnTo>
                  <a:pt x="0" y="8906"/>
                </a:lnTo>
                <a:arcTo wR="21600" hR="8906" stAng="10800000" swAng="-219956"/>
                <a:lnTo>
                  <a:pt x="256" y="10273"/>
                </a:lnTo>
                <a:arcTo wR="21600" hR="8906" stAng="-10580044" swAng="518004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2"/>
          <p:cNvSpPr/>
          <p:nvPr/>
        </p:nvSpPr>
        <p:spPr>
          <a:xfrm>
            <a:off x="4021920" y="5761080"/>
            <a:ext cx="266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+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3"/>
          <p:cNvSpPr/>
          <p:nvPr/>
        </p:nvSpPr>
        <p:spPr>
          <a:xfrm>
            <a:off x="4012200" y="6211800"/>
            <a:ext cx="226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6"/>
          <p:cNvSpPr/>
          <p:nvPr/>
        </p:nvSpPr>
        <p:spPr>
          <a:xfrm>
            <a:off x="4067280" y="4978440"/>
            <a:ext cx="3324240" cy="1778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0880" y="76320"/>
            <a:ext cx="662148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is the only nonmetal listed.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y be displaced from acids or can be given off when a metal reacts with 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(producing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metal hydroxide).  The reaction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depends on metal reactivity &amp; water temp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ill Mg react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86"/>
          <p:cNvSpPr/>
          <p:nvPr/>
        </p:nvSpPr>
        <p:spPr>
          <a:xfrm>
            <a:off x="6781680" y="352440"/>
            <a:ext cx="990720" cy="1136160"/>
          </a:xfrm>
          <a:prstGeom prst="rect">
            <a:avLst/>
          </a:prstGeom>
          <a:solidFill>
            <a:srgbClr val="67b3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87"/>
          <p:cNvSpPr/>
          <p:nvPr/>
        </p:nvSpPr>
        <p:spPr>
          <a:xfrm>
            <a:off x="6195240" y="1828800"/>
            <a:ext cx="1599840" cy="6487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8"/>
          <p:cNvSpPr/>
          <p:nvPr/>
        </p:nvSpPr>
        <p:spPr>
          <a:xfrm>
            <a:off x="6544440" y="2706840"/>
            <a:ext cx="12870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89"/>
          <p:cNvSpPr/>
          <p:nvPr/>
        </p:nvSpPr>
        <p:spPr>
          <a:xfrm>
            <a:off x="6905160" y="3659040"/>
            <a:ext cx="925920" cy="581400"/>
          </a:xfrm>
          <a:prstGeom prst="rect">
            <a:avLst/>
          </a:prstGeom>
          <a:solidFill>
            <a:srgbClr val="b5ed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90"/>
          <p:cNvSpPr/>
          <p:nvPr/>
        </p:nvSpPr>
        <p:spPr>
          <a:xfrm>
            <a:off x="3809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1"/>
          <p:cNvSpPr/>
          <p:nvPr/>
        </p:nvSpPr>
        <p:spPr>
          <a:xfrm>
            <a:off x="152280" y="2971800"/>
            <a:ext cx="655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No for cold, yes if it is hot/s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92"/>
          <p:cNvSpPr/>
          <p:nvPr/>
        </p:nvSpPr>
        <p:spPr>
          <a:xfrm>
            <a:off x="3886200" y="3962520"/>
            <a:ext cx="235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93"/>
          <p:cNvSpPr/>
          <p:nvPr/>
        </p:nvSpPr>
        <p:spPr>
          <a:xfrm>
            <a:off x="152280" y="4371840"/>
            <a:ext cx="50292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re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steam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94"/>
          <p:cNvSpPr/>
          <p:nvPr/>
        </p:nvSpPr>
        <p:spPr>
          <a:xfrm>
            <a:off x="3909960" y="3459240"/>
            <a:ext cx="277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7"/>
          <p:cNvSpPr/>
          <p:nvPr/>
        </p:nvSpPr>
        <p:spPr>
          <a:xfrm>
            <a:off x="5029200" y="4800600"/>
            <a:ext cx="289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07"/>
          <p:cNvSpPr/>
          <p:nvPr/>
        </p:nvSpPr>
        <p:spPr>
          <a:xfrm>
            <a:off x="7848720" y="44280"/>
            <a:ext cx="152280" cy="1695600"/>
          </a:xfrm>
          <a:custGeom>
            <a:avLst/>
            <a:gdLst>
              <a:gd name="textAreaLeft" fmla="*/ 97200 w 152280"/>
              <a:gd name="textAreaRight" fmla="*/ 152640 w 152280"/>
              <a:gd name="textAreaTop" fmla="*/ 43920 h 1695600"/>
              <a:gd name="textAreaBottom" fmla="*/ 1651680 h 16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08"/>
          <p:cNvSpPr/>
          <p:nvPr/>
        </p:nvSpPr>
        <p:spPr>
          <a:xfrm>
            <a:off x="7950240" y="50760"/>
            <a:ext cx="152280" cy="2489400"/>
          </a:xfrm>
          <a:custGeom>
            <a:avLst/>
            <a:gdLst>
              <a:gd name="textAreaLeft" fmla="*/ 97200 w 152280"/>
              <a:gd name="textAreaRight" fmla="*/ 152640 w 152280"/>
              <a:gd name="textAreaTop" fmla="*/ 64800 h 2489400"/>
              <a:gd name="textAreaBottom" fmla="*/ 2424600 h 248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888"/>
                </a:lnTo>
                <a:cubicBezTo>
                  <a:pt x="10800" y="16788"/>
                  <a:pt x="5400" y="17688"/>
                  <a:pt x="0" y="17688"/>
                </a:cubicBezTo>
                <a:cubicBezTo>
                  <a:pt x="5400" y="17688"/>
                  <a:pt x="10800" y="18588"/>
                  <a:pt x="10800" y="194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09"/>
          <p:cNvSpPr/>
          <p:nvPr/>
        </p:nvSpPr>
        <p:spPr>
          <a:xfrm>
            <a:off x="8051760" y="44280"/>
            <a:ext cx="152280" cy="3384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10"/>
          <p:cNvSpPr/>
          <p:nvPr/>
        </p:nvSpPr>
        <p:spPr>
          <a:xfrm>
            <a:off x="8153280" y="44280"/>
            <a:ext cx="152640" cy="45594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0 h 4559400"/>
              <a:gd name="textAreaBottom" fmla="*/ 4440600 h 455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1"/>
          <p:cNvSpPr/>
          <p:nvPr/>
        </p:nvSpPr>
        <p:spPr>
          <a:xfrm>
            <a:off x="4038480" y="57452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13"/>
          <p:cNvSpPr/>
          <p:nvPr/>
        </p:nvSpPr>
        <p:spPr>
          <a:xfrm>
            <a:off x="4038480" y="62024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4"/>
          <p:cNvSpPr/>
          <p:nvPr/>
        </p:nvSpPr>
        <p:spPr>
          <a:xfrm>
            <a:off x="152280" y="3962520"/>
            <a:ext cx="5029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3809880" y="3505320"/>
            <a:ext cx="2895840" cy="1012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3809880" y="5380200"/>
            <a:ext cx="3557880" cy="1401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etals will have a specific place in the activity series.  For simplicity, only the most common metals are sh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als near the top of the activity series are more reactive because their valence electrons are more easily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ests and exams the activity series may appear as K, Na, … Ag, Au;  you must remember that K is reactive, Au is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ence of a metal is not indicated in the question, use its most common valence (in bold on your periodic table) to determine the correct chemical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Activity Series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428640" y="685440"/>
            <a:ext cx="4267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s form via the addition of oxyg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05920" y="46080"/>
          <a:ext cx="761760" cy="668808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43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0"/>
          <p:cNvSpPr/>
          <p:nvPr/>
        </p:nvSpPr>
        <p:spPr>
          <a:xfrm>
            <a:off x="8001000" y="76320"/>
            <a:ext cx="228600" cy="586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3000 h 5867280"/>
              <a:gd name="textAreaBottom" fmla="*/ 5714280 h 58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2521"/>
                </a:lnTo>
                <a:cubicBezTo>
                  <a:pt x="10800" y="3421"/>
                  <a:pt x="5400" y="4321"/>
                  <a:pt x="0" y="4321"/>
                </a:cubicBezTo>
                <a:cubicBezTo>
                  <a:pt x="5400" y="4321"/>
                  <a:pt x="10800" y="5221"/>
                  <a:pt x="10800" y="61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2"/>
          <p:cNvSpPr/>
          <p:nvPr/>
        </p:nvSpPr>
        <p:spPr>
          <a:xfrm>
            <a:off x="7696080" y="304812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2834"/>
                </a:lnTo>
                <a:cubicBezTo>
                  <a:pt x="10800" y="3734"/>
                  <a:pt x="5400" y="4634"/>
                  <a:pt x="0" y="4634"/>
                </a:cubicBezTo>
                <a:cubicBezTo>
                  <a:pt x="5400" y="4634"/>
                  <a:pt x="10800" y="5534"/>
                  <a:pt x="10800" y="643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3429000" y="2514600"/>
            <a:ext cx="411480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s plu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heat) will change to metal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7467480" y="548640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15"/>
                </a:lnTo>
                <a:cubicBezTo>
                  <a:pt x="10800" y="9115"/>
                  <a:pt x="5400" y="10015"/>
                  <a:pt x="0" y="10015"/>
                </a:cubicBezTo>
                <a:cubicBezTo>
                  <a:pt x="5400" y="10015"/>
                  <a:pt x="10800" y="10915"/>
                  <a:pt x="10800" y="118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3429000" y="4952880"/>
            <a:ext cx="3962520" cy="167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s decompose with he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76320" y="533520"/>
            <a:ext cx="3429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ation and behavior of oxides can also be predicted via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re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4954680" y="3886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4650120" y="5867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2362320" y="56386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362320" y="4168800"/>
            <a:ext cx="10666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1600200" y="6172200"/>
            <a:ext cx="198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Fe + H</a:t>
            </a:r>
            <a:r>
              <a:rPr b="0" lang="en-US" sz="3200" spc="-1" strike="noStrike" baseline="-25000">
                <a:solidFill>
                  <a:srgbClr val="d6d6f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2514600" y="5099040"/>
            <a:ext cx="914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you remember the Activity Series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otass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od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agnes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lumin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i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r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i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ea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ydrog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opp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ercu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ilv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ula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ientist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k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w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mi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nt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your tur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8991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 126 and 127. Than answer question # 3 on page 1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worksheet provided by Mr McCorm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99"/>
                </a:solidFill>
                <a:latin typeface="Arial"/>
              </a:rPr>
              <a:t>ACTIVITY LAB tomorrow. Review Displacement and Activity Series concept. Review page 131 in textbook and come to class on Monday prepared to tell me what your steps are {you must have them written down to proceed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04:20:13Z</dcterms:created>
  <dc:creator>Jeremy Schneider</dc:creator>
  <dc:description>Copyright 2007 - All Rights Reserved -
visit www.chalkbored.com for details</dc:description>
  <dc:language>en-US</dc:language>
  <cp:lastModifiedBy> </cp:lastModifiedBy>
  <dcterms:modified xsi:type="dcterms:W3CDTF">2012-10-12T12:33:59Z</dcterms:modified>
  <cp:revision>63</cp:revision>
  <dc:subject>Chemistry Resources for High School Teachers and Students - PowerPoint Lessons, Notes, Labs, Worksheets, Handouts, Practice Problems, and Solutions.</dc:subject>
  <dc:title>PowerPoint - Activity Series &amp; Double Displacement Reactions</dc:title>
</cp:coreProperties>
</file>